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6CA-0D54-4058-AF60-E7D13029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3F8-4F82-4FC3-999C-226B3F6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C9260-E528-442A-91D4-DB1A409E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2FB3-A9ED-4FBA-91CB-1505EF00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CA047-71BB-45D6-98FB-EE7FAF3B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A0E9D-3E0D-4F80-BC82-38D65B17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E72E3-10F0-4D60-93F1-EA56F061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C3EF5-2067-4505-8562-8026295D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88F8A-FD5B-4A7E-9848-8F3B9B44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47C29-1350-4657-8E84-01E87A08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F4858-2AE1-4E70-952C-62FB47E3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39067-5083-4508-AD7F-34E2A770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B5E-D4D9-4D7B-ABB1-D55D2AE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58E55-8A93-4518-B80D-1054C5FB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9C6DB-CF37-41DB-96BB-07678050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2BB40-8DA3-4C1F-83C8-7754C5C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8FF98-C972-4908-8F9F-ECBC8B8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2FCEC-C160-49DD-9F76-80DD8B25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5121F-1CEF-441D-8EED-E9AF574C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2A93A-C869-47A4-945C-CA7A8BF4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E88BD-DDA3-49AC-AE79-2B48FDFD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10235-B7CD-4DE8-9358-67590544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0EF54-8ADF-428C-9102-D2CE79CF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644-AEA1-44BE-AE20-D7F1C5FC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41716-CF3F-40E4-AA53-1B4D0EAA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CF6E5-67BA-4BC3-98DA-F5A21028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3E352-3069-488D-9CBF-95CEAD0C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9A376-1264-44A3-97AB-1EE4357B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78B6-0CEA-4AB6-BA8F-8F30847B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1A972-4107-426A-95D2-C68DCE29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9D1A3-C5E6-4C01-8FBE-ADFEE486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D4951-DEAA-43F2-95CD-A702A5EB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5B8DA-ECCE-4445-B22C-79CCDC76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5C529-1930-4BF7-8A8A-4A93E66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2E3A-93A9-42A7-A3E5-1D353DA7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88C4A-1D99-465B-B269-6A3F8BB5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DD8F-1FF9-4B10-B80B-E1DF8548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5F7D1-EC4A-4512-A045-0FA7E5C7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02654-E97E-47BE-BD54-476068C2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86F0A-37C8-43B2-846C-0BAA0E3C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40423-DF6A-49ED-AA83-A67FD169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6AC66-9530-434B-962A-A168570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DAE83-12B4-4074-8080-ED3BE5F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02008-AF2B-4F46-A0B9-189EAD0E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A6B41-7379-4DA3-BDDA-1704B450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22FA-2828-48CC-803C-F3138CAB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C4539-A9F5-4805-8273-F50CF25E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83C24-AD57-4A3D-B63F-57B0D966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D6040-E5E2-4299-9DAC-E745DCE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DFA78-8DDC-419A-A0AA-63F9F2C1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0877D-512A-4E35-BA57-7BE956D4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A8098-1CBE-4BAB-9ABC-8FCA34B1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62267-4298-4543-9E2C-2AB2E4AA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1C988-2E05-4B80-AD84-48F82BE6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CB761-29C3-474B-A31B-00DBDBEB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D0229-E34B-4DAE-B70B-5157789C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C18D-2643-4455-8330-C7E75DB7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38302-F62C-4E74-A6E5-1EC349F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DFE4E-2739-464A-8C45-BB910FE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C7BC1-4DA2-4B8B-8992-4459147B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56DB1-98EB-4228-B388-1A8484F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5E0B7-C76F-4ADF-A354-5A32B000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6615E-28A4-4584-9B10-113AA2B5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EA949-16A2-40A1-9FC1-4E535E4B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1503A-2985-49A9-8D0D-768501D1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D5470-5126-4C6F-9FE4-8D52D400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0F22A-9D90-4508-8322-F87887D5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C652-BE77-4486-A547-C96E3334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F4F6A-AFDB-459E-9B03-F0043472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061F6-7B9D-4925-95B5-6C898850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193A3-3F0F-44D2-85AE-DF9971E8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5165A-2886-4988-ADFB-947B659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AEB2C-C9EB-4ED9-8060-3FAF5CA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6EEC8-3AD7-479F-9AC2-17804A6C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67157-93B3-471E-AE97-05D1D39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D0566-E472-45C5-99D5-877CE706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27EBF-81CA-4931-9FCB-CC21BCB0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AA821-7603-4454-9B5B-C9D38619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DB8C-14CC-4125-AC21-F68C7C84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0BF4C-2028-453A-AE2D-801782F5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C5619-CA7F-4FB1-A7B4-D96FC6D5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25EAE-6C42-486A-B2EF-DB81EE28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C35A2-C93A-4991-B59D-DA16AEA0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C1D05-E2AF-4158-9287-801A8B45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95FD6-2EE7-479C-ADAD-2B0A773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D2AF7-3F20-4CC9-ACB9-789BE293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C99DB-9AD8-4C20-BCF4-D125A500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1ABE3-79F4-4CC1-8043-07D8AD0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8CCCD-BCD8-4694-A35E-FCA91F34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1996-B679-4C86-BF8E-A802544B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E422C-B4C3-46BE-9CBD-7981A404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B5775-A976-44BD-A094-341829E9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04254-BD57-4825-8976-8049D182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AFC1F-8989-4F14-A7A9-5089568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B70AA-0522-4D24-BEE1-4F93C92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E3F61-823B-4D25-A0CF-5E37699D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E3329-FF3A-4B43-84ED-49E8328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3838D-621B-406D-B414-9A3ACDB9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C1C0D-89CA-4E0F-AE60-616B21C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B5C58-C9AB-4EBF-A6CC-2DFE9B83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9B86-EFB3-45F5-A28E-C3F311C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491E3-5DF3-4AFD-B8E3-9B04DB38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189EE-8538-4273-B567-785B4CE5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90C15-6DAD-4AB9-A9D7-D92D9632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716FC-6510-4421-A5A3-016091C4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926F5-AC73-47F0-914B-51312A5F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AA9D4-D232-4A07-BEB5-07464166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AC9D6-37E7-45EE-B84B-6B640C47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A4748-4F2A-4BC5-87B9-5621CFA6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A1F84-B5F5-477F-B320-4600D733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5C7EA-272A-4C81-8392-BC9EE29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D63-04D5-4E29-91AC-0A454A0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FC49-17F5-49E1-B7E5-542B2222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6B28A-A00B-4415-B561-F6F55C5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6F7A9-84B4-4EB9-AEFC-71A54E55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A8697-99C4-4414-9BA1-D2E00640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BDA5E-5A3B-4878-9373-BF9E49F7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FEF49-E4F5-4E99-8E4F-7EE0878F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8BCDF-6348-46FE-BE8D-91DDBD63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843B7-AF02-4263-9EC2-1998CE2E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A58B9-0D03-4E10-BCFA-AD9E5600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DC6F8-E465-46A7-90C0-011F74CC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0E4AC-08C2-4F2A-9624-34BCF538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D7E7-EE1A-41BE-96DB-8F748F9A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8B034-61E1-4DE9-8FA5-CF491CA3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755E05-6D65-4F51-A1FB-8DE16D4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0C4D4-5613-460E-AB63-8E41C01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019F6-6CD0-4083-97FB-860A90E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30FC4-A291-4D26-96EC-3FEC5352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32A01-8CCB-4913-8D0A-32C078A8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534C7-B01F-499B-9FA6-6986CEE6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5D2E9-710B-47E0-9543-728B6FDC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5E58F-DF75-4822-BE53-22BC3E52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E7571-1F7A-4832-A52F-FE8CD6EB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E9D1-6F58-40C3-97CE-75CD18C3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ED93C-03B6-4836-92ED-0F67405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F01AF-F87D-436C-B408-5BA98648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4A836-4765-431B-98C8-F4316D0A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13B5E-9813-44F1-B3E8-6B78E91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39FE8-DF21-4CC2-B5BF-D5692B6C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CE6CE-B09D-4F10-9288-C2FCE0EB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71C0A-E1EB-42A6-AD0A-633D06DD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34AC3-1D50-49CF-AAF5-5A2155DA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051BB2-9745-4CE9-B4FE-F95D53D1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CFCC3-5A7B-4920-9B44-D5692D30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252-067E-4D37-8690-A67088A0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F1DB3-811B-4710-9036-AA7517D6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F3906-5A1A-48A4-8D1D-351FB7CA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9C856-04FC-4E43-B0B3-A0B038CA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5BC55-C590-4433-89E5-34E255BC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592E4-FD08-4C40-AB88-C580713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7F0E3-F096-44E9-8E99-1C6AC499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FD892-F75F-48F1-BEBE-CD1CBD94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60532-F223-4E57-85AE-B24702D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53584-2E69-4D50-AA7B-B2E74FD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01607-F2BE-47AC-85AD-881F3CEC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CBC2-A252-4B95-A4D7-BCC1BC91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EE20D-E168-4D3D-BA98-97F93CD1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C4A0E-6534-410E-9215-B0E27339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9FEBA-C49D-4527-9478-D3A936AC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C084FA-7EC0-4F10-B19B-F053BC7B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F2F3D2-FED8-4E63-9BF7-878AF96B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14003-B3A9-46ED-9EC6-EF31BD78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9C487-A9CF-434F-A546-A06996D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1E9DF-9E56-4D4C-8835-1A5010F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C24294-F2C5-417A-BDE4-5BAE028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4532B-4518-49D5-82C4-6C99F34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9CAE-3798-4F57-8334-D7B9800A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63012-5C3B-4E9C-B6BE-EC7712B0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EB375-AEC1-494D-986F-3989458C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BF6167-E329-4589-BD7B-068D2B18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0C0D-7514-4E12-B617-7F7CA0E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752F-1B79-45E4-8C86-EF77CAC6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E3DE-57D2-411A-AAF0-59B1FF26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69BB-4A8C-4557-8699-B99CF02B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72E-12E1-4516-B150-43D0CBF8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80ED-409B-46C2-93CC-B7E685CF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1166-0388-48F4-BE93-B607C4B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D35F-B046-45D0-BE8D-447C832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2277A-9BF3-494A-8304-109A77F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EBA8-614A-4082-8A4E-D5DD2B99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8CA0-F4BF-4630-BAF2-D3B77F50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4683-E8ED-41E9-BA31-6A74A6CA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9C2D-7CA5-4EC6-B114-B40BE6C3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3803-4D1F-44FB-B8CD-CA6C1162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CB42-C901-4331-A7E2-D787FE82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77B-0FDC-45EB-B7EB-EF4DCB1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D522-B73F-412E-91A9-7CC25905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0420-FC6A-4136-8BDE-502BCA7B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CDB5-6444-468E-8F08-68124DF1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6DD8-F984-4264-A855-9EBCD8D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F4CA-FD3D-401A-A5F4-28096B6A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42F7-AA4E-4AC9-8166-E477B03F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8D80-79F3-4F4D-B103-67FD0F56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9443-80E0-4730-9384-E2220F05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25A6-B7CF-4CF3-9DC5-6E232EC6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5906-5EFD-4C13-A2F3-3166D6DC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4FB-E87B-4C95-BA46-B1E7AA4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FC163-FFD0-4383-978E-6EE71535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8A04-B357-41C2-B220-7623AA60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9A33-E904-49EA-A0F8-B697203A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BC046-77CD-4929-94F3-B85985E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688FD-7517-41D9-ADDF-D1AAAF1A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3529-9451-4039-BC42-6E109CA8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CD1EC-C36D-4AF0-BB30-D3D4049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2B91-EE9F-447E-87C7-CF950DAF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7B22-0FE7-4757-A0B0-C8D23399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6CF7-F9A9-4D33-AEC0-9B842B1B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2F4-CE91-469D-9DE8-72F95D81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81C2-25D9-40C8-B5F3-1CCF180A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F0EF-2551-44ED-9A96-E7A6117B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0E16-3BAB-4F08-B219-6D3144E8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F1B2-D487-43AA-AC54-CC3AF7EA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551A9-CF74-408C-BECE-90F4682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696AD-26A9-46B5-8DEC-D28E0824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2F81A-70A1-421C-8D94-881F3979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317A-9BC9-4AE3-A66D-2FD8D708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9D1B2-DF6C-4148-A3E9-6D7D9C2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BCF6-A1D5-4008-A44E-82DB2C9C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E8B-3E89-4B06-A2DF-68F25E3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9F9D4-B17C-4EC0-AC23-A05AFB33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27F8-26CB-43B0-9D41-A3B33505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6C51-C6C2-47FC-BFA7-B9F90325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EB55-C3FC-4B9A-B769-9E15D9C2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AB8B-85EF-4EE7-B4AA-0F855912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3ADF7-A36F-49C2-97AD-9CD47096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B54F9-48A3-4B26-BB47-864A2A3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75BB4-402F-432A-84D2-95CE363C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A3959-A734-4F79-814A-E53B524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19A1-D516-449B-A298-3058CFA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B8F-FC8E-4A3D-ACC5-B72BAB65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324F-8E9A-4D9A-9FDE-8281BEE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5DEC-6952-4EE5-B89A-B9459B80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F6D83-BD97-49C8-BCBA-B54CD669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81F2C-FD67-416E-8411-3B7F3208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19514-3402-4BF6-8D57-C67CDD4D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8200-0003-4736-96BC-2C6BBE82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CBE74-46EA-42E8-873B-97C13094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8803-876F-4BCA-979F-5600D5C7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3506A-D06C-44F2-9E33-6B77EBB1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A87FC-E3EE-43C8-A538-DA3E6589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EB0-2E95-45E2-B34C-0AEE290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C103A-D5D9-4D4E-8F45-CC704469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1B645-7424-48D0-B652-266FC8F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F726A-422E-4167-9EBC-FD3344B9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13F84-24A8-4EB8-A7E8-3954ABF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39D79-CE35-44B3-A65B-3668287C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A1D1-2710-4D45-ABBE-9FE01E88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7FDAC-438A-409B-99E3-598E6F05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349E9-7BBF-4DAF-AFC3-9EF7F186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40B88-7225-4DEF-87C0-AF50FECA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D4D00-55E4-4B06-B642-AF08CA3A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878D-352C-4C7D-9180-D88A449C7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BCC2-FA40-45C5-B7DE-DFCCA8CEC2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C8C2-B21D-42B6-A01F-33A84E558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E14C-6D0E-4530-B658-9E1297078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E244-9DBA-422B-9AAD-C14D37B74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749F-D736-4B4D-89F5-DC8D3D8EE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96D3-B37B-4DAB-A017-48042E24F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7582-EB72-4C57-8C92-E17EB40A3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6E6-0D8E-4EF1-BC2D-E44874524E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D381-7BD9-46E9-90F6-EEB65C6387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157A-8355-493E-BFBE-E95B7030F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BB49-C897-424D-AFB0-9B63D1E16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6153-5BC2-4CEB-9945-025446A36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832-A913-4B42-8C85-30CA4A412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BC38-C71F-4311-872C-4299C9931D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DD84-D74F-48C4-8C65-02EBA62E32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F8F4-B2EF-41A3-BDB2-6AEB62DEA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B378-E968-4BF8-BBC4-04513DDC7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DDDF-74E7-4280-8E59-DCDDA8CB14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D0EB-9829-4EC6-AAA0-6A141088B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F4AE-2DA0-460B-9435-7DF3284700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18A8-A579-478D-A0F3-A81907BE03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64B3-D3C2-4440-9070-3D4EFB3605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F2D9-9FFA-41C8-953A-16C5FE5CC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09B8-024E-4E5B-912E-C93B393FBC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48D-FB41-4C83-B40E-EEF38D291B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CCD1-D216-4D7B-B5E9-CD0C0DBA36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6C5E-F352-4884-B7F6-40F10FBFA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6F57-9BD6-436A-B9DF-27AE44D85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A122-2854-4BA4-8E55-5606DD4B1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C7F-2A6B-45F7-9185-46657C5CC4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87C9-8BBA-4D12-AA99-F037B58913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080-A8D2-4E1B-86C0-350A0B2B1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9707-6FB0-406A-950D-6FE0531732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8E93-C4B1-4C10-BAFD-AF34F6B044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107E-DFA3-43D7-887C-0C62BE4C54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19F7-1A27-4BC7-9102-B0E0AF1848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783-1BDE-4B93-8AF4-00A0BD103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2FA2-B9B0-46BE-8A95-D2FAF90A80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9E5F-4698-49B5-B64C-58267FBB5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57320" y="3043080"/>
            <a:ext cx="702936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831960" y="785880"/>
            <a:ext cx="7754760" cy="6033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908000" y="45086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439040" cy="5495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3"/>
          <a:stretch/>
        </p:blipFill>
        <p:spPr>
          <a:xfrm>
            <a:off x="1476360" y="39337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928800" y="762120"/>
            <a:ext cx="7381800" cy="6072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1979640" y="3206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4"/>
          <a:stretch/>
        </p:blipFill>
        <p:spPr>
          <a:xfrm>
            <a:off x="1979640" y="3998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5"/>
          <a:stretch/>
        </p:blipFill>
        <p:spPr>
          <a:xfrm>
            <a:off x="1979640" y="55119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47560" y="1262160"/>
            <a:ext cx="8048880" cy="3238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2"/>
          <a:stretch/>
        </p:blipFill>
        <p:spPr>
          <a:xfrm>
            <a:off x="1333440" y="4776840"/>
            <a:ext cx="5953320" cy="1438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1763640" y="31417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5"/>
          <a:stretch/>
        </p:blipFill>
        <p:spPr>
          <a:xfrm>
            <a:off x="1763640" y="4797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6"/>
          <a:stretch/>
        </p:blipFill>
        <p:spPr>
          <a:xfrm>
            <a:off x="1835280" y="5661000"/>
            <a:ext cx="433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95360" y="838080"/>
            <a:ext cx="81532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347760" y="880920"/>
            <a:ext cx="8448480" cy="5905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2195640" y="1335240"/>
            <a:ext cx="129672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3656160" y="1341360"/>
            <a:ext cx="134748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4"/>
          <a:stretch/>
        </p:blipFill>
        <p:spPr>
          <a:xfrm>
            <a:off x="5148360" y="134136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5"/>
          <a:stretch/>
        </p:blipFill>
        <p:spPr>
          <a:xfrm>
            <a:off x="6443640" y="1341360"/>
            <a:ext cx="165744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6"/>
          <a:stretch/>
        </p:blipFill>
        <p:spPr>
          <a:xfrm>
            <a:off x="2144880" y="285264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7"/>
          <a:stretch/>
        </p:blipFill>
        <p:spPr>
          <a:xfrm>
            <a:off x="3573360" y="2852640"/>
            <a:ext cx="106992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8"/>
          <a:stretch/>
        </p:blipFill>
        <p:spPr>
          <a:xfrm>
            <a:off x="4788000" y="281160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9"/>
          <a:stretch/>
        </p:blipFill>
        <p:spPr>
          <a:xfrm>
            <a:off x="5888160" y="2822400"/>
            <a:ext cx="865080" cy="438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10"/>
          <a:stretch/>
        </p:blipFill>
        <p:spPr>
          <a:xfrm>
            <a:off x="7093080" y="283212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2" descr=""/>
          <p:cNvPicPr/>
          <p:nvPr/>
        </p:nvPicPr>
        <p:blipFill>
          <a:blip r:embed="rId11"/>
          <a:stretch/>
        </p:blipFill>
        <p:spPr>
          <a:xfrm>
            <a:off x="3286080" y="5467320"/>
            <a:ext cx="2343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2" descr=""/>
          <p:cNvPicPr/>
          <p:nvPr/>
        </p:nvPicPr>
        <p:blipFill>
          <a:blip r:embed="rId1"/>
          <a:stretch/>
        </p:blipFill>
        <p:spPr>
          <a:xfrm>
            <a:off x="604800" y="804960"/>
            <a:ext cx="7934400" cy="5981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2" descr=""/>
          <p:cNvPicPr/>
          <p:nvPr/>
        </p:nvPicPr>
        <p:blipFill>
          <a:blip r:embed="rId2"/>
          <a:stretch/>
        </p:blipFill>
        <p:spPr>
          <a:xfrm>
            <a:off x="2571840" y="1324080"/>
            <a:ext cx="2343240" cy="8190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2" descr=""/>
          <p:cNvPicPr/>
          <p:nvPr/>
        </p:nvPicPr>
        <p:blipFill>
          <a:blip r:embed="rId3"/>
          <a:stretch/>
        </p:blipFill>
        <p:spPr>
          <a:xfrm>
            <a:off x="2228760" y="2835360"/>
            <a:ext cx="2343240" cy="819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2" descr=""/>
          <p:cNvPicPr/>
          <p:nvPr/>
        </p:nvPicPr>
        <p:blipFill>
          <a:blip r:embed="rId4"/>
          <a:stretch/>
        </p:blipFill>
        <p:spPr>
          <a:xfrm>
            <a:off x="3170160" y="4857840"/>
            <a:ext cx="2343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576360" y="2538360"/>
            <a:ext cx="7991280" cy="1781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4429080" y="3071880"/>
            <a:ext cx="16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19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